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9CC-B7B9-46D2-A227-E90719ED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886-34A4-4A1B-B5FA-82026602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0BD-12FF-45AC-B49A-F30F5EF8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A9C-8A49-47E1-9C14-944839A5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2403-1B6E-42A4-927C-3BAFCB70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E90C-7EE8-413C-85B6-89A8CD7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353-EDDB-4B8A-AAF3-325196B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9459-59F1-48FF-9F6D-37DA2EAD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648-6025-487C-A977-29C5209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D855-D64D-45F3-B4F4-9EF1D17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B1F7-2A1B-4107-9011-E6EF221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CC2-A221-4E90-97BB-69F54AAC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F938-D448-4922-BB64-B60D94A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B8C2-2B48-41DA-A506-7BC67FE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B6AA-3E40-4A02-984B-C22ED7A3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0C04-2549-4FFB-B89E-105F1376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12FE-92A2-490D-B239-9B212E5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FB1-8A99-4C27-86E7-2AB06288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F45-3A0B-4E77-844D-45161163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391-9005-4C94-930F-E64AD6A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2BD-35DD-4233-9406-33BDB46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285-F69E-42CC-9211-7BBD65C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1DA-8381-427D-9521-E19EAED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A4F-63CE-4C30-8F24-B6BA20D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71B4-FAD0-413F-9FDF-67A913EF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3C2B-C117-4AFE-9E44-C60B1053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8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rrogate Par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Instructional Support and Commun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riteria for Selection of Surrog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blic agency may select a surrogate parent in any way permitted under Stat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lorida L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tudents eligi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suspected of being eli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pecial programs surrogate shall be appointed by the Superint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ligible for programs made available through a contract, the surrogate shall be appointed by the individual specified in the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n employee of the SEA, the LEA, or any other agency that is involved in the education or care of the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no interest that conflicts with the interest of the child he or she represents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knowledge and skills that ensure adequate representation of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lorida Law-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itizen, resident of Florida and above age of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ppropriately trained using materials developed and approved by the D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non-employee of local school board or other public agency  involved in care of the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can be an employee of a nonpublic agency that only provides non-educational care for the chi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otherwise qualifies to be a surrogate section is not an employee of the agency solely because he or she is paid by the agency to serve as a surrogat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ponsi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gate parent may represent the child in all matters relating 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fication, evaluation, and educational placement of the child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vision of FAPE to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238880" y="4876920"/>
          <a:ext cx="12002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876920"/>
                    <a:ext cx="12002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ponsi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parent is excluded from areas of care, custody, and identification and evaluation activities not related to 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3540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81680" y="1752480"/>
          <a:ext cx="1089000" cy="41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752480"/>
                    <a:ext cx="1089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the surrogate parent i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 tr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 with ESE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participating in ESE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student’s educationa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child need a surrogate in my distr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no longer in need of 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guardian assig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019920" y="4114800"/>
          <a:ext cx="234612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114800"/>
                    <a:ext cx="234612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-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no longer wishes to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determines that the appointed surrogate no longer adequately represent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mov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rrogate Parent Cites/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FY 1994-10 Surrogat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6A-6.0333, F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CFR 300.5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grams and Procedures SP&amp;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22360" y="1981080"/>
          <a:ext cx="3309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981080"/>
                    <a:ext cx="3309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a reference check should be done on surrogate parent applica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similar to procedures for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 a district pay surrogate parents for representing a chil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35400" y="2027160"/>
          <a:ext cx="381024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2027160"/>
                    <a:ext cx="38102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Bureau done any complaint investigations regarding surrogate parent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corrective actions included assigning surrogates for individual children and revising procedur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xtent of liability of a surrogate paren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gate shall not be held liable for actions taken in good faith on behalf of the child.  Consult your School Board attorney for specific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tudents with disabilities who live with foster parents need surrogate parent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43430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w it’s time for questions from you!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191120" y="0"/>
          <a:ext cx="394956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394956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raining materials or technical assistance papers, contact the Clearinghouse Information Center: 850/245-04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ail: cicbiscs@fldoe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firn.edu/doe/comm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81680" y="5238720"/>
          <a:ext cx="175284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238720"/>
                    <a:ext cx="1752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gulations require that-Each public agency shall ensure that the rights of a child are protected i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81480" y="3954600"/>
          <a:ext cx="285444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954600"/>
                    <a:ext cx="285444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arent (as defined in §300.20) can be iden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blic agency, after reasonable efforts, cannot discover the whereabouts of a paren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is a ward of the State under the laws of that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 -Federal La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or adoptiv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ian (but not the state if child is ward of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cting in place of parent (such as grandparent with whom the child lives or who is legally responsible for chi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parent (natural parents’ authority extinguished by state law on-going, long-term parental relationship with child, willing to make educational decisions, has no conflicting inter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- Sta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, any guardian, and any person who is in a parental relationship to a child or who is exercising supervisory authority in place of a parent over a child of public schoo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ty of a public agency includes the assignment of an individual to act as a surrogate for the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4038480"/>
          <a:ext cx="30970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30970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ust include a meth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termining whether a child needs a surrogate parent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ing a surrogate parent to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5:30:58Z</dcterms:created>
  <dc:creator>lewist</dc:creator>
  <dc:description/>
  <dc:language>en-US</dc:language>
  <cp:lastModifiedBy>Margot Palazesi-Dietrich</cp:lastModifiedBy>
  <cp:lastPrinted>2002-07-29T14:45:27Z</cp:lastPrinted>
  <dcterms:modified xsi:type="dcterms:W3CDTF">2003-11-04T13:15:30Z</dcterms:modified>
  <cp:revision>6</cp:revision>
  <dc:subject/>
  <dc:title>Surrogate Par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638167</vt:r8>
  </property>
  <property fmtid="{D5CDD505-2E9C-101B-9397-08002B2CF9AE}" pid="3" name="_AuthorEmail">
    <vt:lpwstr>Kim.Komisar@fldoe.org</vt:lpwstr>
  </property>
  <property fmtid="{D5CDD505-2E9C-101B-9397-08002B2CF9AE}" pid="4" name="_AuthorEmailDisplayName">
    <vt:lpwstr>Komisar, Kim</vt:lpwstr>
  </property>
  <property fmtid="{D5CDD505-2E9C-101B-9397-08002B2CF9AE}" pid="5" name="_EmailSubject">
    <vt:lpwstr/>
  </property>
</Properties>
</file>